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22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CDE-E89E-4335-A80E-727BA9CA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DEF-21D6-4C6E-9596-D68EEB29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34D-26DC-4D50-B5AE-540B06A2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EF3-1883-4371-BC30-75AD8534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7090-A2A6-4622-8DF7-E1C4B7B3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6665-9C1B-4EF0-8EC7-93F75C2F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33D8-5900-44D0-91F7-28FA959A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1DA4-0E34-4B9B-B7A9-33FC03B6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1F39-9B85-4D33-9987-3140972B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8E34-7501-4039-AED0-3BB82926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3FEF-C2C5-42F5-97FD-E022BF95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A76-B325-4EDB-97E3-2DD8D83D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85F9-B804-4630-9142-68006FAA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C9DF-6AF7-494A-BFE4-A5C0B8E3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7EE3-1D0A-44E7-B7DE-7C870EED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F3CF-5DA2-4FBD-80BC-3242744F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90DD-D8E1-41CE-A23A-C51D18B9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099-B507-43B9-8F08-E2413B13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E43-3842-4927-AE79-661ED124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9D3-5229-4755-84C5-813D801A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767-D368-473A-8E0B-61246CB4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4FF6-9E55-4B37-897B-D5B115DF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42C-56D0-4DAF-9420-CC7A5BA3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106-87B6-423C-BB48-73B11A4C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20FD-B07D-49F6-8D87-2FF20668333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26B1-748E-4F5D-A7A2-EEC492D6AA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Disaster Preparedness &amp; Mitigation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in  Health System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6781680" cy="5410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715000" y="53352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echnical Health Program  contd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858000" y="4495680"/>
            <a:ext cx="2286000" cy="2362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400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  Health management in shelters or temporary settlements---control of infectious diseases, vaccination of children, nutrition surveill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.  Training Health personnel &amp; public health management ---in service training ,professional staff, professional curriculum, research, officers ongoing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.  Logistic resources---budget, network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8.  Simulation exercises—desktop, fiel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xercise, dr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543800" y="1952640"/>
            <a:ext cx="762120" cy="1467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Technical Health Program  contd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-458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acuation :temporary transfer of population from areas at risk  to safer location.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93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zed e.g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tropical storm air attack,military action, industrial  accidents)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93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ontaneous   e.g..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floods,drought,chemical &amp;nuclear accide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-458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vironmental health services : --short travel time ,clean potable water,excreta solid waste rest stop &amp; knowledg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-458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aster warning :simple language ,clear exact nature of messa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-458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tore of radio &amp; broad cas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848720" y="3886200"/>
            <a:ext cx="1295280" cy="2971800"/>
            <a:chOff x="7848720" y="3886200"/>
            <a:chExt cx="1295280" cy="297180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7848720" y="3886200"/>
              <a:ext cx="12952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 txBox="1"/>
            <p:nvPr/>
          </p:nvSpPr>
          <p:spPr>
            <a:xfrm>
              <a:off x="7848720" y="3886200"/>
              <a:ext cx="129528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49"/>
                </a:spcBef>
                <a:buClr>
                  <a:srgbClr val="00ff99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413480" y="1447920"/>
            <a:ext cx="180684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ealth policy &amp; legislation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705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gislation to develop preparedness &amp;response plan, routine, simulation assign financial resour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ordination mechanism :health disaster coordinator  -Incharge of preparedness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ivities 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coordinating plans with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Government ,International agencies, NGO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&amp;other dept.. water, housing power ,communic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communication &amp;co ordination with PAHO, WHO&amp; civil protection agencies, emergency preparedness progra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629400" y="1523880"/>
            <a:ext cx="2514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Mitigation and prevention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1532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finition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 are actions aimed at reducing or eliminating the impact of future hazard events by avoiding hazard or strengthening resistance to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bjectives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 vulnerability of  the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. improving &amp; enforcing building c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00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 magnitude of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zar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diverting flow of riv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312408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Vulnerability and capacity assessmen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finition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the degree to which population, individual, or organization is unable to anticipate, cope with resist &amp; recover from the impact of disaster .(Blaikie 1994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sk ,threat assess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o identify hazard &amp;their possible effects, capacity to prevent &amp; respond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velop strategies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mergency  prevention mitigation preparedness measur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apid, relevant emergency response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Gaps in resources   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ulnerability reduction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52880" y="1066680"/>
            <a:ext cx="4114800" cy="305460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228600" y="1066680"/>
            <a:ext cx="5791320" cy="5794200"/>
            <a:chOff x="228600" y="1066680"/>
            <a:chExt cx="5791320" cy="5794200"/>
          </a:xfrm>
        </p:grpSpPr>
        <p:cxnSp>
          <p:nvCxnSpPr>
            <p:cNvPr id="166" name="_s59412"/>
            <p:cNvCxnSpPr>
              <a:stCxn id="167" idx="0"/>
              <a:endCxn id="168" idx="2"/>
            </p:cNvCxnSpPr>
            <p:nvPr/>
          </p:nvCxnSpPr>
          <p:spPr>
            <a:xfrm flipV="1" rot="16200000">
              <a:off x="3123720" y="2970720"/>
              <a:ext cx="1067400" cy="1676880"/>
            </a:xfrm>
            <a:prstGeom prst="bentConnector3">
              <a:avLst>
                <a:gd name="adj1" fmla="val 10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9411"/>
            <p:cNvCxnSpPr/>
            <p:nvPr/>
          </p:nvCxnSpPr>
          <p:spPr>
            <a:xfrm flipH="1" flipV="1" rot="5400000">
              <a:off x="1523880" y="3047040"/>
              <a:ext cx="1143720" cy="1448640"/>
            </a:xfrm>
            <a:prstGeom prst="bentConnector3">
              <a:avLst>
                <a:gd name="adj1" fmla="val 998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8" name="_s59407"/>
            <p:cNvSpPr/>
            <p:nvPr/>
          </p:nvSpPr>
          <p:spPr>
            <a:xfrm>
              <a:off x="1371600" y="2514240"/>
              <a:ext cx="2895480" cy="7621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aramond"/>
                </a:rPr>
                <a:t>Assess vulnerabilit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9408"/>
            <p:cNvSpPr/>
            <p:nvPr/>
          </p:nvSpPr>
          <p:spPr>
            <a:xfrm>
              <a:off x="228600" y="4419360"/>
              <a:ext cx="2286000" cy="83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Prevent/mitig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59409"/>
            <p:cNvSpPr/>
            <p:nvPr/>
          </p:nvSpPr>
          <p:spPr>
            <a:xfrm>
              <a:off x="2971800" y="4343040"/>
              <a:ext cx="3048120" cy="838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Prepare for emergenc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43200" y="1904760"/>
              <a:ext cx="76320" cy="380880"/>
            </a:xfrm>
            <a:prstGeom prst="downArrow">
              <a:avLst>
                <a:gd name="adj1" fmla="val 50000"/>
                <a:gd name="adj2" fmla="val 124764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71600" y="1066680"/>
              <a:ext cx="3048120" cy="761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00200" y="1295280"/>
              <a:ext cx="2666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aramond"/>
                </a:rPr>
                <a:t>Develop polic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47920" y="5943240"/>
              <a:ext cx="3352680" cy="533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47920" y="6035400"/>
              <a:ext cx="32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Vulnerability reduc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828800" y="5334120"/>
            <a:ext cx="304920" cy="609480"/>
          </a:xfrm>
          <a:custGeom>
            <a:avLst/>
            <a:gdLst>
              <a:gd name="textAreaLeft" fmla="*/ 40680 w 304920"/>
              <a:gd name="textAreaRight" fmla="*/ 264240 w 30492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5334120"/>
            <a:ext cx="304920" cy="533160"/>
          </a:xfrm>
          <a:custGeom>
            <a:avLst/>
            <a:gdLst>
              <a:gd name="textAreaLeft" fmla="*/ 40680 w 304920"/>
              <a:gd name="textAreaRight" fmla="*/ 264240 w 30492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teps in VCA 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620120" cy="5638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ermine aim, objectives, scope&amp; context of VCA&amp; ta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ation of planning group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zard identification &amp;descrip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unity &amp; environmental descrip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ermining effects– community vulner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zard  priorit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mmendation for 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9880" indent="-4798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umentation of results &amp; deci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itigation Programme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areas exposed to natural hazards with help of speciali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ordinate the work of multidisplinary teams in developing design &amp; building cod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de disaster mitigation in health sect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the priority hospitals &amp; critical  health facilities -----current building standards &amp; cod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itigation Programme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disaster mitigation measures in maintains plan, structural modification&amp; functional aspec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 &amp; sensitize &amp; train those personnel involved in planning, administration, operation, maintenance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de disaster mitigation in the curricula of professional training institution related to construction, maintenance, administration, financing &amp; planning health facil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isaster  Preparedn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vities designed to minimize loss of life and damage, to organize the temporary removal of people and property from a threatened location &amp;facilitate ,timely &amp;effective rescue, relief  &amp; rehabili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2760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isaster Mitig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5181840" cy="4724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831960" indent="-41580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alth facilities – loss of life, hospital fun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78640" indent="-34632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ructu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78640" indent="-34632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n- structu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78640" indent="-34632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ministrative /organizat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Drinking water supply ,sewage 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Mitigation to reduce community vulnerabil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705720" y="1295280"/>
            <a:ext cx="2361960" cy="2667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Disaster mitigation in health system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219320" y="1781280"/>
            <a:ext cx="5410080" cy="4390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ructural vulnerability 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part of building required for support (foundation, columns, beams, diaphragm &amp;supporting walls 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440" indent="-4694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n-structural vulnerability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39760" indent="-33516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ined to  building structure:   e.g. window, door, roo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39760" indent="-33516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ing functionality:   e. g. plumbing, air-conditioning, power, water, communic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39760" indent="-33516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ems located with in building: e.g. medical, furniture, mechanical equipm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391520" y="762120"/>
            <a:ext cx="1752480" cy="1957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Disaster mitigation in health system contd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5181840" cy="4724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Administrative &amp; organizational vulnerabilit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50320" indent="-425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sical design : external site, internal , distribution of space, access rou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50320" indent="-425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sical &amp; functional relationship with diff. sectors e.g. hiring, maintenance, supp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50320" indent="-425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ministrative &amp; operational facility: disaster management, simulation exercis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20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0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50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629400" y="380880"/>
            <a:ext cx="2514600" cy="2476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itigation measur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620120" cy="56386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with low cost measures e.g. Non structu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 mitigation at National, local level discussion with all  parties (client, owner, finance officer&amp; technical personnel)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sures 4-8 % of total hospital cost—failure of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Disaster mitigation in water supply &amp; sewage system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620120" cy="56386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er supply &amp; sewage system vuln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break of communicable disease &amp; sanitation deteriorates. e.g. Mexico city in198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rategies to quickly &amp; effectively restore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zard analysis by team –focus on operation maintenance, administration &amp;impact on serv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tigation measures in master pl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sures –retrofitting ,replacement, repair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ck up equipments relocation of components (rigid joints, flexible pip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Mitigation to reduce to community vulnerability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620120" cy="5638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 risk of communicabl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 general health status of popul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er &amp; sanitation projects organized by self help basis e.g. community based  organ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cal emergency  planning in disast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educ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ion with water vend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vention by Government &amp; municipal authorities in industrial plant contami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ference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620120" cy="56386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tural disasters protecting public health WHO public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ncipals of disaster mitigation in health facility PAHO public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vironmental health in emergencies &amp; disas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xt book of PAR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an journal of public health Jan-march 199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2666880" y="3772080"/>
            <a:ext cx="38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644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isaster  Preparedness contd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238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 &amp; International  agencies conduct activities like planning, organization ,training &amp;communicating ,educating the people to provide prompt and appropriate responses to prevent &amp;reduce adverse effe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going ,multisectoral activ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gral part of national system &amp; responsibil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ce in developed  and developing countries  (infrastructure, resources, management capacity, communication &amp;logistic proble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162920" y="1600200"/>
          <a:ext cx="1981080" cy="262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600200"/>
                    <a:ext cx="198108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bjectives :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620120" cy="5638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prevent excess mortality by impact, rescue, relief , appropriate  health care &amp; disruption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provide appropriate &amp;timely health care for casualities,malnutrition &amp; comm.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prevent exposure to adverse climatic &amp; environmental  condi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prevent long term &amp; short term disaster related morbid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establishment of health services to or above the pre- disaster lev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General model of disaster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reparedness pla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lnSpc>
                <a:spcPct val="115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fy the hazards and  estimate their effe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lnSpc>
                <a:spcPct val="115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ess  the likely needs –preliminary list, local capacity, quantify the needs, consider basic nee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lnSpc>
                <a:spcPct val="115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cuss the needs –teams involved in planning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4040" indent="-464040">
              <a:lnSpc>
                <a:spcPct val="115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termine operational procedure &amp; review existing priorities. --- provide frame work, hazard prioritization, fundamental policy set out, goals approve by higher authority, delegation of responsibil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General model of disaster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reparedness plan  contd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 Assign the responsibil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an inventory of local  capacity &amp; available 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   Review steps 2 &amp; 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.   Identify critical areas-----strengthening &amp; monitoring pl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.   Confirm priorities ---needs &amp; resources,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General  model of disaster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reparedness plan    contd 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ize the plan ---easy to read, not rigid, standard layo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actice the  plan – reg.reviewed , updated, responsible people, identify weaknes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aluate the plan ---lesson learned &amp; appli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ile an information package –demography, epidemiology,  Geographic Information System (GI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echnical Health Progra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92160" y="4098960"/>
            <a:ext cx="3063960" cy="2759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720" y="1599840"/>
            <a:ext cx="6705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reatment of casual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15800">
              <a:spcBef>
                <a:spcPts val="79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 hospital  plan : - search &amp; rescue of victims, first aid at disaster site (triage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15800">
              <a:spcBef>
                <a:spcPts val="79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spital plan :   emergency  plan, training &amp; information  safety of pts &amp;health personn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15800">
              <a:spcBef>
                <a:spcPts val="799"/>
              </a:spcBef>
              <a:buClr>
                <a:srgbClr val="ffffff"/>
              </a:buClr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ck up system: water, power, communication, transport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-685800" y="167652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echnical Health Program contd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632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fication of bodies :coordination with FM, protocol for identification &amp; transpor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44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Epidemiological surveillance &amp; disease control     ---simple data collection ,warning mechanism with list of potential illnesses ,special programmes for disea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4480" indent="-474480">
              <a:lnSpc>
                <a:spcPct val="95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ic sanitation &amp; sanitary Engineering: collaboration with diff.departments ,contingency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181560" y="1523880"/>
            <a:ext cx="296244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5:56:12Z</dcterms:created>
  <dc:creator>user</dc:creator>
  <dc:description/>
  <dc:language>en-US</dc:language>
  <cp:lastModifiedBy>Deptt. of medicine</cp:lastModifiedBy>
  <dcterms:modified xsi:type="dcterms:W3CDTF">2004-05-14T07:49:53Z</dcterms:modified>
  <cp:revision>26</cp:revision>
  <dc:subject/>
  <dc:title>Slide 1</dc:title>
</cp:coreProperties>
</file>